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9.png" ContentType="image/png"/>
  <Override PartName="/ppt/media/image12.jpeg" ContentType="image/jpeg"/>
  <Override PartName="/ppt/media/image13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6.wmf" ContentType="image/x-wmf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gif" ContentType="image/gif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88F2-2ED1-4597-A6AC-49B796623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6489-9228-47D1-891C-3AC59D4A8935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87A0-D86F-462B-9EB9-2C3394173217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107-DDD3-4337-B84F-10AC11F2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2D49-26E2-4A8E-A330-9997A8A1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17B-573E-407A-88A6-85DC8E7A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2D5-F924-4EAF-AFA5-A2D6BBAB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C59A-AD3B-485D-85DA-57EBD437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4EAC-0E10-430D-BA71-87C04D4C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72D8-FFFC-4E6E-AE13-40FE35D4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B11A-E3A4-4680-A3F4-8A7D0AFE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2FD5-590C-4B56-8471-1174C9C7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BB71-7E45-48FB-8E01-0A52CD6D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1E0A-FE52-4DEC-B6CB-0D8E4B73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C7E-C88C-4355-B6E3-BB6FD36C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969A-FFD5-493B-B70E-D4FB90A6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BC5F-69CF-4F2A-BAF9-3086A8EF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4E75-D5E0-4554-98B7-774397F3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AEC2-3C13-4722-9584-8731C7CF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3F2B-2F59-44BE-9269-AC8FCDE7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E46D9-6560-4F00-91FB-30F31DAC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A7611-1C08-43C4-A7C6-0CD61356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2EDDD-0C5F-413E-9FEC-956A7380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6F7D4-B6AC-46F5-BD16-CC073C7E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89A4F-D38E-4CA3-B1CE-59B092BF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41E0-3CC8-45F1-9553-0DB198E0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81B8A-6E9C-4C23-B418-D44B2337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69424-D8E4-4584-915C-64763DED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4831A-052F-47F0-AFA7-A357FDEF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E3836-03DE-4AB3-9B47-C10FC606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C0E37-0641-401A-9696-4D6E797E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29E9C-30A2-43A2-B53C-36D8358E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9764C-BD41-4051-B1F4-F72BF5B5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DEDDA-4266-4D75-A57C-EDDA513B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CA9CE-A893-4A30-BDB7-3656CF76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6C9BF-D5BB-4BBD-A6EA-7E903974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19CF-E848-49D6-87E8-56F26EE4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42491-5E7C-432C-8A3B-97DF13ED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74E96-C9CB-4742-AD02-BBD38959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8BE2D-3BBF-4CB3-AF33-1735F907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19805-D6BA-45FD-83AD-71076AC0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959DF-1666-427E-80C0-1694500F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A18E2-8B09-4D14-B043-199F22CF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CD4FD-DA7F-4437-81D2-7E704A54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07142-98A5-45AE-9FDF-DDDD27D1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F836B-81FE-457C-B611-C797C6D4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0CBC-CE36-4696-9B2C-815EBF23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4397-E5DE-4579-91AA-604445A5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9B7-8BF6-4DB8-B09B-3AAC5396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9075-29A6-406A-A889-4AC2A9FF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FD6-3239-43C3-A4AF-00A3BE44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3980-0747-4FCB-A4E2-831FC2394D0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E636-E066-459E-91B0-202781F3B4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64DD-09EC-47B3-BB73-9473B37D60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2" name="Group 1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5BE5-FC42-42A8-AB53-8A92A0BB7B6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77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79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0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81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2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jpe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Triumph of Indust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echnology  and Industrial Grow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Object 2"/>
          <p:cNvGraphicFramePr/>
          <p:nvPr/>
        </p:nvGraphicFramePr>
        <p:xfrm>
          <a:off x="0" y="549360"/>
          <a:ext cx="8769240" cy="55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9360"/>
                    <a:ext cx="8769240" cy="55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WordArt 3"/>
          <p:cNvSpPr txBox="1"/>
          <p:nvPr/>
        </p:nvSpPr>
        <p:spPr>
          <a:xfrm>
            <a:off x="304920" y="76320"/>
            <a:ext cx="8610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2600" dir="10800000" blurRad="0" rotWithShape="0">
                    <a:srgbClr val="000000"/>
                  </a:outerShdw>
                </a:effectLst>
                <a:latin typeface="Impact"/>
              </a:rPr>
              <a:t>IMMIGRATION</a:t>
            </a:r>
            <a:endParaRPr b="1" lang="en-US" sz="24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2600" dir="108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629400" y="1498680"/>
            <a:ext cx="2209680" cy="33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  <a:ea typeface="Times New Roman"/>
              </a:rPr>
              <a:t>1,593,0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eorgia"/>
                <a:ea typeface="Times New Roman"/>
              </a:rPr>
              <a:t>181,188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  <a:ea typeface="Times New Roman"/>
              </a:rPr>
              <a:t>2,753,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eorgia"/>
                <a:ea typeface="Times New Roman"/>
              </a:rPr>
              <a:t>926,0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  <a:ea typeface="Times New Roman"/>
              </a:rPr>
              <a:t>1,110,0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eorgia"/>
                <a:ea typeface="Times New Roman"/>
              </a:rPr>
              <a:t>1,847,0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  <a:ea typeface="Times New Roman"/>
              </a:rPr>
              <a:t>1,069,0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eorgia"/>
                <a:ea typeface="Times New Roman"/>
              </a:rPr>
              <a:t>5,780,0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  <a:ea typeface="Times New Roman"/>
              </a:rPr>
              <a:t>540,0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Georgia"/>
                <a:ea typeface="Times New Roman"/>
              </a:rPr>
              <a:t>2,928,0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6705360"/>
            <a:ext cx="777240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Chart: Rise of Immigrants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76320" y="6019920"/>
            <a:ext cx="80010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50021"/>
                </a:solidFill>
                <a:uFillTx/>
                <a:latin typeface="Georgia"/>
              </a:rPr>
              <a:t>Old</a:t>
            </a:r>
            <a:r>
              <a:rPr b="1" lang="en-US" sz="2400" spc="-1" strike="noStrike">
                <a:solidFill>
                  <a:srgbClr val="003366"/>
                </a:solidFill>
                <a:latin typeface="Georgia"/>
              </a:rPr>
              <a:t> = England and German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Georgia"/>
              </a:rPr>
              <a:t>New</a:t>
            </a:r>
            <a:r>
              <a:rPr b="1" lang="en-US" sz="2400" spc="-1" strike="noStrike">
                <a:solidFill>
                  <a:srgbClr val="003366"/>
                </a:solidFill>
                <a:latin typeface="Georgia"/>
              </a:rPr>
              <a:t> = Southern Europe:  Italy, Russia, Polan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pitalism and Entrepreneu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pitalism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ree Enterprise, where individuals own most busine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trepreneurs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eople who invest money in a product or enterprise to make a profi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ndustry these people made created more jobs and also attracted foreign investmen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vernment Policies Encourage Free Enterpri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vernment policies encouraged the success of business in the late 1800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: The government would give railroad companies millions of acres of land in return for their promise to quickly link the East and West Coas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vernment Policies Encourage Free Enterpri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tective Tarif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xes that make imported goods cost more than those products that are made locally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issez-fai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licy that allows businesses to operate under minimal government regul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nds off, Leave business alon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icity Transforms Lif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tent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rant by the federal government giving the inventor the right to develop, use, and sell an innovation for a set period of tim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omas Edison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upported by J.P. Morgan. Received more than 1,000 patents for new innovations such as the light bulb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 later developed plans for a central power plant for citi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eorge Westinghouse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eveloped technology to send electricity over long distanc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roving Communic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muel Morse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elegraph technology or sending messages over wir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exander Graham Bell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eleph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1900 there were more than 1 million telephones across the count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uglielmo Marconi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wireless telegraph leading to later the development of the rad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229600" cy="853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Spirit Medium"/>
              </a:rPr>
              <a:t>Thomas Alva Edis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81080" y="5790960"/>
            <a:ext cx="5181840" cy="533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00"/>
                </a:solidFill>
                <a:latin typeface="Comic Sans MS"/>
              </a:rPr>
              <a:t>“</a:t>
            </a:r>
            <a:r>
              <a:rPr b="1" lang="en-US" sz="2900" spc="-1" strike="noStrike">
                <a:solidFill>
                  <a:srgbClr val="ff6600"/>
                </a:solidFill>
                <a:latin typeface="Comic Sans MS"/>
              </a:rPr>
              <a:t>Wizard of Menlo Park”</a:t>
            </a:r>
            <a:r>
              <a:rPr b="1" lang="en-US" sz="29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Picture 8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3295440" cy="4543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32763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533520" y="1235160"/>
            <a:ext cx="8305560" cy="812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 Narrow"/>
              </a:rPr>
              <a:t>Edison Inventions helped to shape modern society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ore than 1,000 inventions paten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ight bulb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honograph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candescent electric lamp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arter for automobiles that eliminated hand cran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atter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erfected stock ticker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ew York City first city to powered by electric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he motion picture camera and project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irst used “hello” as phone greeting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95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elped Alexander G. Bell with the telepho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762120" y="304920"/>
            <a:ext cx="7543800" cy="779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ff6600"/>
                </a:solidFill>
                <a:uFillTx/>
                <a:latin typeface="Comic Sans MS"/>
              </a:rPr>
              <a:t>“</a:t>
            </a:r>
            <a:r>
              <a:rPr b="1" lang="en-US" sz="4500" spc="-1" strike="noStrike" u="sng">
                <a:solidFill>
                  <a:srgbClr val="ff6600"/>
                </a:solidFill>
                <a:uFillTx/>
                <a:latin typeface="Comic Sans MS"/>
              </a:rPr>
              <a:t>Wizard of Menlo Park”</a:t>
            </a:r>
            <a:r>
              <a:rPr b="1" lang="en-US" sz="4500" spc="-1" strike="noStrike" u="sng">
                <a:solidFill>
                  <a:srgbClr val="0000ff"/>
                </a:solidFill>
                <a:uFillTx/>
                <a:latin typeface="Comic Sans MS"/>
              </a:rPr>
              <a:t> </a:t>
            </a:r>
            <a:endParaRPr b="0" lang="en-US" sz="4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53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Spirit Medium"/>
              </a:rPr>
              <a:t>The Light Bulb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3" descr="light bulb"/>
          <p:cNvPicPr/>
          <p:nvPr/>
        </p:nvPicPr>
        <p:blipFill>
          <a:blip r:embed="rId1"/>
          <a:stretch/>
        </p:blipFill>
        <p:spPr>
          <a:xfrm>
            <a:off x="609480" y="1828800"/>
            <a:ext cx="153684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9" name="Picture 5" descr="stamp-light bulb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7074000" y="1752480"/>
            <a:ext cx="1612800" cy="22100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"/>
          <p:cNvPicPr/>
          <p:nvPr/>
        </p:nvPicPr>
        <p:blipFill>
          <a:blip r:embed="rId3"/>
          <a:stretch/>
        </p:blipFill>
        <p:spPr>
          <a:xfrm>
            <a:off x="2419200" y="1708200"/>
            <a:ext cx="436248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01120"/>
            <a:ext cx="8229600" cy="85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Spirit Medium"/>
              </a:rPr>
              <a:t>The Phonograph (1877)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1"/>
          <a:stretch/>
        </p:blipFill>
        <p:spPr>
          <a:xfrm>
            <a:off x="1755720" y="1600200"/>
            <a:ext cx="56307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atural Resour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ountry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 growth was fueled by our many natural resour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al mines powered trains, forests were cut for lumber, rivers were used to transports goods, and in 1859 Edwin Drake drilled first oil  wel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01120"/>
            <a:ext cx="8229600" cy="793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Spirit Medium"/>
              </a:rPr>
              <a:t>The Ediphone or Dictaphone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5" descr=""/>
          <p:cNvPicPr/>
          <p:nvPr/>
        </p:nvPicPr>
        <p:blipFill>
          <a:blip r:embed="rId1"/>
          <a:stretch/>
        </p:blipFill>
        <p:spPr>
          <a:xfrm>
            <a:off x="3090960" y="1600200"/>
            <a:ext cx="2960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77440"/>
            <a:ext cx="8229600" cy="793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Spirit Medium"/>
              </a:rPr>
              <a:t>The Motion Picture Camera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905120" y="1579680"/>
            <a:ext cx="5533920" cy="41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77440"/>
            <a:ext cx="8229600" cy="793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Spirit Medium"/>
              </a:rPr>
              <a:t>Alexander Graham Bel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2286000" y="5714640"/>
            <a:ext cx="411480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Comic Sans MS"/>
              </a:rPr>
              <a:t>Telephone (187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9" name="Picture 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143000" y="1447920"/>
            <a:ext cx="2809800" cy="3790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572000" y="1676520"/>
            <a:ext cx="3371760" cy="31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2"/>
          <p:cNvSpPr txBox="1"/>
          <p:nvPr/>
        </p:nvSpPr>
        <p:spPr>
          <a:xfrm>
            <a:off x="380880" y="76320"/>
            <a:ext cx="8229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KEY INVENTIONS</a:t>
            </a:r>
            <a:endParaRPr b="0" lang="en-US" sz="24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0" y="533520"/>
            <a:ext cx="7315200" cy="60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cc"/>
                </a:solidFill>
                <a:uFillTx/>
                <a:latin typeface="Impact"/>
              </a:rPr>
              <a:t>BETWEEN 1860 TO 1900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Elevator---185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Bessemer Process---185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Sewing Machine---185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Dynamite---1867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Typewriter---1868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Levi Blue Jeans/Basketball---187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Telephone---1876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Phonograph---1878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Light bulb and cash register---1879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Zipper---188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Gasoline automobile and skyscraper---1885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New York City---first city to have electricity--189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Radio---1895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Subway---1897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X-ray---190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8610480" y="6400800"/>
            <a:ext cx="304920" cy="30492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6477120" y="2057400"/>
            <a:ext cx="2438280" cy="1828800"/>
          </a:xfrm>
          <a:prstGeom prst="cloudCallout">
            <a:avLst>
              <a:gd name="adj1" fmla="val -68814"/>
              <a:gd name="adj2" fmla="val -91842"/>
            </a:avLst>
          </a:prstGeom>
          <a:gradFill rotWithShape="0">
            <a:gsLst>
              <a:gs pos="0">
                <a:srgbClr val="dbf1ff"/>
              </a:gs>
              <a:gs pos="50000">
                <a:srgbClr val="ffff99"/>
              </a:gs>
              <a:gs pos="100000">
                <a:srgbClr val="dbf1ff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6705720" y="228600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Between 1800 to 1900, US Govt. issued 500,000 paten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6" name="Picture 8" descr="Bulb"/>
          <p:cNvPicPr/>
          <p:nvPr/>
        </p:nvPicPr>
        <p:blipFill>
          <a:blip r:embed="rId1"/>
          <a:stretch/>
        </p:blipFill>
        <p:spPr>
          <a:xfrm>
            <a:off x="5486400" y="1981080"/>
            <a:ext cx="343080" cy="571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Zipper"/>
          <p:cNvPicPr/>
          <p:nvPr/>
        </p:nvPicPr>
        <p:blipFill>
          <a:blip r:embed="rId2"/>
          <a:stretch/>
        </p:blipFill>
        <p:spPr>
          <a:xfrm>
            <a:off x="7848720" y="4038480"/>
            <a:ext cx="571320" cy="868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Elevatoranim"/>
          <p:cNvPicPr/>
          <p:nvPr/>
        </p:nvPicPr>
        <p:blipFill>
          <a:blip r:embed="rId3"/>
          <a:stretch/>
        </p:blipFill>
        <p:spPr>
          <a:xfrm>
            <a:off x="304920" y="1219320"/>
            <a:ext cx="1017360" cy="1417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Typewriter"/>
          <p:cNvPicPr/>
          <p:nvPr/>
        </p:nvPicPr>
        <p:blipFill>
          <a:blip r:embed="rId4"/>
          <a:stretch/>
        </p:blipFill>
        <p:spPr>
          <a:xfrm>
            <a:off x="380880" y="5867280"/>
            <a:ext cx="81612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Pants"/>
          <p:cNvPicPr/>
          <p:nvPr/>
        </p:nvPicPr>
        <p:blipFill>
          <a:blip r:embed="rId5"/>
          <a:stretch/>
        </p:blipFill>
        <p:spPr>
          <a:xfrm>
            <a:off x="7315200" y="5638680"/>
            <a:ext cx="731880" cy="1028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Radio"/>
          <p:cNvPicPr/>
          <p:nvPr/>
        </p:nvPicPr>
        <p:blipFill>
          <a:blip r:embed="rId6"/>
          <a:stretch/>
        </p:blipFill>
        <p:spPr>
          <a:xfrm>
            <a:off x="685800" y="3200400"/>
            <a:ext cx="533520" cy="366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4" descr="Xray"/>
          <p:cNvPicPr/>
          <p:nvPr/>
        </p:nvPicPr>
        <p:blipFill>
          <a:blip r:embed="rId7"/>
          <a:stretch/>
        </p:blipFill>
        <p:spPr>
          <a:xfrm>
            <a:off x="228600" y="3809880"/>
            <a:ext cx="571680" cy="594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5" descr="r822a"/>
          <p:cNvPicPr/>
          <p:nvPr/>
        </p:nvPicPr>
        <p:blipFill>
          <a:blip r:embed="rId8"/>
          <a:srcRect l="0" t="13896" r="0" b="9719"/>
          <a:stretch/>
        </p:blipFill>
        <p:spPr>
          <a:xfrm>
            <a:off x="7467480" y="914400"/>
            <a:ext cx="770040" cy="990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6" descr="Basketball"/>
          <p:cNvPicPr/>
          <p:nvPr/>
        </p:nvPicPr>
        <p:blipFill>
          <a:blip r:embed="rId9"/>
          <a:stretch/>
        </p:blipFill>
        <p:spPr>
          <a:xfrm>
            <a:off x="6400800" y="3886200"/>
            <a:ext cx="560520" cy="5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e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nry Bessem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Developed process for purifying iron, resulting in steel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ssemer Pro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1890 the U.S. was outproducing  Britai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eel allowed for the production of skyscrapers, elevators, and suspension bridg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uspension bridge was the Brooklyn Bridge. In 1883 it was the longest bridge in the worl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3" descr="Workington%20No%202%20Bessemer%20vessel"/>
          <p:cNvPicPr/>
          <p:nvPr/>
        </p:nvPicPr>
        <p:blipFill>
          <a:blip r:embed="rId1"/>
          <a:stretch/>
        </p:blipFill>
        <p:spPr>
          <a:xfrm>
            <a:off x="196920" y="3809880"/>
            <a:ext cx="2241360" cy="2895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48" name="Text Box 4"/>
          <p:cNvSpPr/>
          <p:nvPr/>
        </p:nvSpPr>
        <p:spPr>
          <a:xfrm>
            <a:off x="2590920" y="925560"/>
            <a:ext cx="6553080" cy="63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99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In 1856 Henry Bessemer devised a way of converting iron into steel on a large scale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His invention involved blowing air through molten iron in a converter, or furnace, in order to burn off the excess carbon.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His invention revolutionized the Industrial Age.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66"/>
                </a:solidFill>
                <a:uFillTx/>
                <a:latin typeface="Georgia"/>
              </a:rPr>
              <a:t>New Uses for Stee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Steel used in railroads, barbed wire, farm machi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Changes construction: Brooklyn Bridge; steel-framed skyscrap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9" name="Picture 6" descr="bessemerlr"/>
          <p:cNvPicPr/>
          <p:nvPr/>
        </p:nvPicPr>
        <p:blipFill>
          <a:blip r:embed="rId2"/>
          <a:srcRect l="0" t="0" r="5580" b="4634"/>
          <a:stretch/>
        </p:blipFill>
        <p:spPr>
          <a:xfrm>
            <a:off x="309600" y="914400"/>
            <a:ext cx="1976400" cy="2590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50" name="WordArt 8"/>
          <p:cNvSpPr txBox="1"/>
          <p:nvPr/>
        </p:nvSpPr>
        <p:spPr>
          <a:xfrm>
            <a:off x="685800" y="76320"/>
            <a:ext cx="7543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5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232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9703641" blurRad="0" rotWithShape="0">
                    <a:srgbClr val="ffffff"/>
                  </a:outerShdw>
                </a:effectLst>
                <a:latin typeface="Impact"/>
              </a:rPr>
              <a:t>BESSEMER PROCESS</a:t>
            </a:r>
            <a:endParaRPr b="1" lang="en-US" sz="2400" spc="1" strike="noStrike">
              <a:ln w="2232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40186" dir="9703641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9"/>
          <p:cNvSpPr/>
          <p:nvPr/>
        </p:nvSpPr>
        <p:spPr>
          <a:xfrm>
            <a:off x="8229600" y="6553080"/>
            <a:ext cx="304920" cy="30492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3"/>
          <p:cNvSpPr/>
          <p:nvPr/>
        </p:nvSpPr>
        <p:spPr>
          <a:xfrm>
            <a:off x="8534520" y="6553080"/>
            <a:ext cx="304560" cy="30492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5943600" y="571680"/>
            <a:ext cx="32004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buClr>
                <a:srgbClr val="0000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With the </a:t>
            </a:r>
            <a:r>
              <a:rPr b="1" i="1" lang="en-US" sz="2400" spc="-1" strike="noStrike" u="sng">
                <a:solidFill>
                  <a:srgbClr val="0000cc"/>
                </a:solidFill>
                <a:uFillTx/>
                <a:latin typeface="Georgia"/>
                <a:ea typeface="Times New Roman"/>
              </a:rPr>
              <a:t>Bessemer Process</a:t>
            </a:r>
            <a:r>
              <a:rPr b="1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 and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Georgia"/>
                <a:ea typeface="Times New Roman"/>
              </a:rPr>
              <a:t>Carnegie</a:t>
            </a:r>
            <a:r>
              <a:rPr b="1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 steel, Skyscrapers revolutionized the building industry…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buClr>
                <a:srgbClr val="0000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Major city skylines would be dotted with this new type of building as the 1900’s begi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buClr>
                <a:srgbClr val="0000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596412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chnology and Transpor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eorge Westinghous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ir brakes for trai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anville Wood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legraph system for train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ustavus Swif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refrigerated cars for transporting foo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91040" y="2361960"/>
            <a:ext cx="3772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884- world divided in to 24 different time zon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lectric streetcars, commuter trains, and subways started to appear in major citi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903- Wright brothers flew first airplan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mericans could now commute to work and not have to live in the cit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WordArt 3"/>
          <p:cNvSpPr txBox="1"/>
          <p:nvPr/>
        </p:nvSpPr>
        <p:spPr>
          <a:xfrm>
            <a:off x="380880" y="152280"/>
            <a:ext cx="83822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33ccff"/>
                </a:solidFill>
                <a:effectLst>
                  <a:outerShdw dist="17819" dir="2700000" blurRad="0" rotWithShape="0">
                    <a:srgbClr val="ffff00"/>
                  </a:outerShdw>
                </a:effectLst>
                <a:latin typeface="Impact"/>
              </a:rPr>
              <a:t>RAILROAD INDUSTRY</a:t>
            </a:r>
            <a:endParaRPr b="1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33ccff"/>
              </a:solidFill>
              <a:effectLst>
                <a:outerShdw dist="17819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19760" y="640044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ullman Car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8610480" y="6400800"/>
            <a:ext cx="304920" cy="30492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287820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0" y="4495680"/>
            <a:ext cx="9144000" cy="274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What helped the railroad industry prosper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6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Bessemer Proce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6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Westinghouse Air Brak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6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teel Rail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algn="ctr">
              <a:lnSpc>
                <a:spcPct val="6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tandard Gau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3" name="Picture 12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4267440" cy="3657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3" descr=""/>
          <p:cNvPicPr/>
          <p:nvPr/>
        </p:nvPicPr>
        <p:blipFill>
          <a:blip r:embed="rId2"/>
          <a:stretch/>
        </p:blipFill>
        <p:spPr>
          <a:xfrm>
            <a:off x="4648320" y="68580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Growing N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ilroads transformed industries because they could transport large amounts of goods quickly, cheaply, and efficiently.  They also linked every part of the na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ilroads stimulated growth in other industri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ss Produc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 making large quantities of goods quickly and inexpensive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WordArt 3"/>
          <p:cNvSpPr txBox="1"/>
          <p:nvPr/>
        </p:nvSpPr>
        <p:spPr>
          <a:xfrm>
            <a:off x="990720" y="76320"/>
            <a:ext cx="7086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NEW INDUSTRIES</a:t>
            </a:r>
            <a:endParaRPr b="0" lang="en-US" sz="2400" spc="1" strike="noStrike">
              <a:ln w="19080">
                <a:solidFill>
                  <a:srgbClr val="00336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914400" y="990720"/>
            <a:ext cx="3809880" cy="55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Oil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Mining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Sugar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Ste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Meatpack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Beef/Cattl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Constr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Telegrap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Telepho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8686800" y="6477120"/>
            <a:ext cx="304920" cy="304560"/>
          </a:xfrm>
          <a:prstGeom prst="irregularSeal1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648320" y="988920"/>
            <a:ext cx="3657600" cy="49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Railro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Market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Sewing Machi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Vacuum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Typewrit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Automobil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Sal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Co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Black"/>
              </a:rPr>
              <a:t>Agricultur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nking World Marke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the 1880s the U.S. had as many miles of railroads as the whole rest of the world combine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ods could easily be made and then transported to ports where they could be shipped all around the worl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export of food and goods greatly expanded the American econom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nging American Socie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rmers became mechanized, meaning fewer workers were needed to do the work that machines were now doing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 of work farmers were moving to citi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ss production meant that clothing and supplies were more affordabl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er costs of living, low wages and repetitive work in factories affected how the citizens live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viron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 much thought had gone on about preserving the environ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ng was destroying land, agricultural production lead to erosion and dust stor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cern about the environment would lead to agencies to protect the lan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ellowstone Park in 1872 was one of the first federal responses to the concerns about the environmen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natural resources and products produced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1"/>
          <p:cNvSpPr/>
          <p:nvPr/>
        </p:nvSpPr>
        <p:spPr>
          <a:xfrm>
            <a:off x="-1384200" y="-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7" name="Picture 13" descr="203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4"/>
          <p:cNvSpPr txBox="1"/>
          <p:nvPr/>
        </p:nvSpPr>
        <p:spPr>
          <a:xfrm>
            <a:off x="228600" y="152280"/>
            <a:ext cx="8763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NEW SOU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-3259080" y="-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0" name="Picture 7" descr="20360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8610480" y="6400800"/>
            <a:ext cx="304920" cy="30492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wing Workfor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y immigrants came to the U.S. after the Civil War. (Asians and European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ush Factor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Things that push people out of their country to go somewhere else.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Religious discrimination, political war, crop failur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ull Factors-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ngs that are appealing for someone who is looking for a place of refuge from their current living place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Economic opportunity, freedom of religion, political stabilit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igrants were willing to work for for low wages because the competition was great and they wanted economic opportunities that they did not have in their home countr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1905, 1 million immigrants have come to America to liv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eorgia"/>
              </a:rPr>
              <a:t>Immigrants from Eur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0" y="685800"/>
            <a:ext cx="9143640" cy="6171840"/>
            <a:chOff x="0" y="685800"/>
            <a:chExt cx="9143640" cy="6171840"/>
          </a:xfrm>
        </p:grpSpPr>
        <p:pic>
          <p:nvPicPr>
            <p:cNvPr id="288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685800"/>
              <a:ext cx="9143640" cy="6171840"/>
            </a:xfrm>
            <a:prstGeom prst="rect">
              <a:avLst/>
            </a:prstGeom>
            <a:ln w="57240">
              <a:solidFill>
                <a:srgbClr val="000000"/>
              </a:solidFill>
              <a:miter/>
            </a:ln>
          </p:spPr>
        </p:pic>
        <p:sp>
          <p:nvSpPr>
            <p:cNvPr id="289" name="Rectangle 5"/>
            <p:cNvSpPr/>
            <p:nvPr/>
          </p:nvSpPr>
          <p:spPr>
            <a:xfrm>
              <a:off x="849600" y="4045680"/>
              <a:ext cx="8182080" cy="2239560"/>
            </a:xfrm>
            <a:prstGeom prst="rect">
              <a:avLst/>
            </a:prstGeom>
            <a:solidFill>
              <a:srgbClr val="f2e6d4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290" name="Picture 6" descr=""/>
          <p:cNvPicPr/>
          <p:nvPr/>
        </p:nvPicPr>
        <p:blipFill>
          <a:blip r:embed="rId2"/>
          <a:srcRect l="10308" t="53951" r="0" b="11512"/>
          <a:stretch/>
        </p:blipFill>
        <p:spPr>
          <a:xfrm>
            <a:off x="990720" y="4038480"/>
            <a:ext cx="7543800" cy="18288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1219320" y="37339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ld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New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New                New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AutoShape 9"/>
          <p:cNvSpPr/>
          <p:nvPr/>
        </p:nvSpPr>
        <p:spPr>
          <a:xfrm>
            <a:off x="685800" y="1066680"/>
            <a:ext cx="7696080" cy="3429000"/>
          </a:xfrm>
          <a:prstGeom prst="wedgeRoundRectCallout">
            <a:avLst>
              <a:gd name="adj1" fmla="val -36574"/>
              <a:gd name="adj2" fmla="val 67500"/>
              <a:gd name="adj3" fmla="val 16667"/>
            </a:avLst>
          </a:prstGeom>
          <a:solidFill>
            <a:srgbClr val="ffffcc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mmigrants provided the labor force for industrial expansion of the US. 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y also became the customers who in return bought the items produced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AutoShape 10"/>
          <p:cNvSpPr/>
          <p:nvPr/>
        </p:nvSpPr>
        <p:spPr>
          <a:xfrm>
            <a:off x="8229600" y="6553080"/>
            <a:ext cx="304920" cy="30492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5:53:31Z</dcterms:created>
  <dc:creator>Sacerdote, Kevin R.</dc:creator>
  <dc:description/>
  <dc:language>en-US</dc:language>
  <cp:lastModifiedBy>Sacerdote, Kevin R.</cp:lastModifiedBy>
  <dcterms:modified xsi:type="dcterms:W3CDTF">2016-09-20T16:15:15Z</dcterms:modified>
  <cp:revision>13</cp:revision>
  <dc:subject/>
  <dc:title>The Triumph of Industry</dc:title>
</cp:coreProperties>
</file>